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A127-F2CD-4746-AA0B-902DD8BBD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s://facinatingamazinganimals.wordpress.com/tag/anima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en.wikipedia.org/wiki/Carl_Linna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ish bota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3ubio.weebly.com/taxonom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taken from: http://biology-igcse.weebly.com/dichotomous-key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taken from: http://biology-igcse.weebly.com/dichotomous-key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nx.org/contents/79849572-b29d-401b-9c26-c37ff1e3cafd@5/Classification_of_Matter_-_G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.com/scitable/content/variation-within-species-43085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tion within species…colouration of these butterflies depends on season when they were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.com/nrg/journal/v10/n11/fig_tab/nrg2687_F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tion within species…sexual dimor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Eclectus_par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lectus parrot (male is green, female is 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resources.mhs.vic.edu.au/macbeth/historical/elizaborde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www.morning-earth.org/Graphic-E/SymbiosisProcaryot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E140-DBEB-4EF7-BD2F-6DE229C8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437E-1C4A-45E3-9BA7-86A74665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E95B-9203-493C-B1FC-FB028647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0638-1DD8-4A94-A580-95D1055A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8ABF-60C4-42F4-9859-1D3EA26F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F0E-69F6-40E6-9D54-1B7FC85A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914-2F14-4A3C-BE12-542BC943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CFD-CBD9-4B15-87F3-B02C6C7E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1874-555D-44BD-901A-CD04DA53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D3A0-DFBF-4853-9C5F-13CD75BC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268D-CDF4-4B3B-B397-4862A21E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3C4-049B-4FF3-93F8-90C3DFC9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BF48-C992-44B1-9360-0096B6E23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ure of 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xonomic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47920" y="1600200"/>
            <a:ext cx="4446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l Linnaeus (1707-177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 of taxonom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naming system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omial nomencl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mo sapi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21200" y="1981080"/>
            <a:ext cx="3721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ication of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iteria used to classify organisms can be used when attempting to identify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chotomous ke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 series of branching two-part statements used to identify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chotomou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693800"/>
            <a:ext cx="845820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pecies of trees are the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96960" y="1981080"/>
            <a:ext cx="4148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chotomou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06560" y="1981080"/>
            <a:ext cx="7129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ing items into various categories based on a set of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tegories/criteria would you use to sort…musical recordings? grocery store items? your clot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2478240"/>
            <a:ext cx="77724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Living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ono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science of classifying all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Mini-Investigation “Creating a Classification System” [page 15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 of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2023920"/>
            <a:ext cx="77724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 of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7360" y="1676520"/>
            <a:ext cx="8291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spec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rganisms capable of breeding freely with each other under natural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2959200"/>
            <a:ext cx="38098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440" y="914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932360" y="304920"/>
            <a:ext cx="3011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 Kingdoms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85960" y="1981080"/>
            <a:ext cx="557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8T05:10:11Z</dcterms:created>
  <dc:creator>rubina khan</dc:creator>
  <dc:description/>
  <dc:language>en-US</dc:language>
  <cp:lastModifiedBy>rubina khan</cp:lastModifiedBy>
  <dcterms:modified xsi:type="dcterms:W3CDTF">2015-02-03T04:56:27Z</dcterms:modified>
  <cp:revision>63</cp:revision>
  <dc:subject/>
  <dc:title>PowerPoint Presentation</dc:title>
</cp:coreProperties>
</file>